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camera.wav" ContentType="audio/x-wav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F7EA-EF75-455B-B800-FC8D31BDD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1E64-EF1C-4493-AA10-B80C45A3A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F449-D300-409A-B4B7-BD37E9C08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3048-966E-42B9-8EC5-8917E12A2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6309A-5114-4D27-987D-E0C12E0FA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36C8-1D50-46EA-8B17-7A575776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324DA-273C-406F-B16F-2678C8B4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A892-1478-440D-9AA7-A8695DE2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A3529-BFAD-4AF0-9E27-6DDC437A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3E7D-3799-4813-8940-12E961D9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15EF-F311-4A73-AC76-FBF22A41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E0E4-87D8-412B-A8A0-2B505564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3CD9-E7E4-40DE-97D0-02F34327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3833-E4E9-4537-96AF-3A016C0C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104D-3444-469C-B6E5-71C28AE1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E8D5-07E3-43A2-84C6-68053EAEB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9483-E0DD-433A-96BA-45EB843B8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74AD-4CB0-4F99-A037-9A30D3D2D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6683-5479-4C19-8523-224593F2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9FB5-86D0-4651-905C-35CFDCF2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677F-2799-41F3-99FE-C1310CED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A389-CA87-4642-87D4-3A665B40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41C9-F984-4671-A623-1AB42FE6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5AB1-78C5-40C8-AB02-8FED014E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628C-0A0D-4C7C-8503-571FDB802890}" type="datetime">
              <a:rPr b="0" lang="ru-RU" sz="1400" spc="-1" strike="noStrike">
                <a:solidFill>
                  <a:srgbClr val="000000"/>
                </a:solidFill>
                <a:latin typeface="Tahom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C519-5BE9-463C-8188-7AE86927141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02EA-1339-444E-9EC7-9D083C18724D}" type="datetime">
              <a:rPr b="0" lang="ru-RU" sz="1400" spc="-1" strike="noStrike">
                <a:solidFill>
                  <a:srgbClr val="1c1c1c"/>
                </a:solidFill>
                <a:latin typeface="Tahom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9A31-6689-4E6E-9187-96BA15197582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rita.edudemo.org.pl/" TargetMode="External"/><Relationship Id="rId2" Type="http://schemas.openxmlformats.org/officeDocument/2006/relationships/hyperlink" Target="http://www.rita.edudemo.org.pl/" TargetMode="External"/><Relationship Id="rId3" Type="http://schemas.openxmlformats.org/officeDocument/2006/relationships/hyperlink" Target="http://www.rita.edudemo.org.pl/" TargetMode="External"/><Relationship Id="rId4" Type="http://schemas.openxmlformats.org/officeDocument/2006/relationships/hyperlink" Target="http://www.rita.edudemo.org.pl/" TargetMode="External"/><Relationship Id="rId5" Type="http://schemas.openxmlformats.org/officeDocument/2006/relationships/hyperlink" Target="http://www.rita.edudemo.org.pl/" TargetMode="External"/><Relationship Id="rId6" Type="http://schemas.openxmlformats.org/officeDocument/2006/relationships/hyperlink" Target="http://www.rita.edudemo.org.pl/" TargetMode="External"/><Relationship Id="rId7" Type="http://schemas.openxmlformats.org/officeDocument/2006/relationships/hyperlink" Target="http://www.rita.edudemo.org.pl/" TargetMode="External"/><Relationship Id="rId8" Type="http://schemas.openxmlformats.org/officeDocument/2006/relationships/hyperlink" Target="http://www.rita.edudemo.org.pl/" TargetMode="External"/><Relationship Id="rId9" Type="http://schemas.openxmlformats.org/officeDocument/2006/relationships/hyperlink" Target="http://www.rita.edudemo.org.pl/" TargetMode="External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ditnet.org/" TargetMode="External"/><Relationship Id="rId2" Type="http://schemas.openxmlformats.org/officeDocument/2006/relationships/hyperlink" Target="http://www.editnet.org/" TargetMode="External"/><Relationship Id="rId3" Type="http://schemas.openxmlformats.org/officeDocument/2006/relationships/hyperlink" Target="http://www.editnet.org/" TargetMode="External"/><Relationship Id="rId4" Type="http://schemas.openxmlformats.org/officeDocument/2006/relationships/hyperlink" Target="http://www.editnet.org/" TargetMode="External"/><Relationship Id="rId5" Type="http://schemas.openxmlformats.org/officeDocument/2006/relationships/hyperlink" Target="http://www.editnet.org/" TargetMode="External"/><Relationship Id="rId6" Type="http://schemas.openxmlformats.org/officeDocument/2006/relationships/hyperlink" Target="http://www.editnet.org/" TargetMode="External"/><Relationship Id="rId7" Type="http://schemas.openxmlformats.org/officeDocument/2006/relationships/hyperlink" Target="http://www.editnet.org/" TargetMode="External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auci.org/" TargetMode="External"/><Relationship Id="rId2" Type="http://schemas.openxmlformats.org/officeDocument/2006/relationships/hyperlink" Target="http://www.pauci.org/" TargetMode="External"/><Relationship Id="rId3" Type="http://schemas.openxmlformats.org/officeDocument/2006/relationships/hyperlink" Target="http://www.pauci.org/" TargetMode="External"/><Relationship Id="rId4" Type="http://schemas.openxmlformats.org/officeDocument/2006/relationships/hyperlink" Target="http://www.pauci.org/" TargetMode="External"/><Relationship Id="rId5" Type="http://schemas.openxmlformats.org/officeDocument/2006/relationships/hyperlink" Target="http://www.pauci.org/" TargetMode="External"/><Relationship Id="rId6" Type="http://schemas.openxmlformats.org/officeDocument/2006/relationships/hyperlink" Target="http://www.pauci.org/" TargetMode="External"/><Relationship Id="rId7" Type="http://schemas.openxmlformats.org/officeDocument/2006/relationships/hyperlink" Target="http://www.pauci.org/" TargetMode="External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klon.org.pl/" TargetMode="External"/><Relationship Id="rId2" Type="http://schemas.openxmlformats.org/officeDocument/2006/relationships/hyperlink" Target="http://www.klon.org.pl/" TargetMode="External"/><Relationship Id="rId3" Type="http://schemas.openxmlformats.org/officeDocument/2006/relationships/hyperlink" Target="http://www.klon.org.pl/" TargetMode="External"/><Relationship Id="rId4" Type="http://schemas.openxmlformats.org/officeDocument/2006/relationships/hyperlink" Target="mailto:klon@klon.org.pl" TargetMode="External"/><Relationship Id="rId5" Type="http://schemas.openxmlformats.org/officeDocument/2006/relationships/hyperlink" Target="mailto:klon@klon.org.pl" TargetMode="External"/><Relationship Id="rId6" Type="http://schemas.openxmlformats.org/officeDocument/2006/relationships/hyperlink" Target="mailto:klon@klon.org.pl" TargetMode="External"/><Relationship Id="rId7" Type="http://schemas.openxmlformats.org/officeDocument/2006/relationships/hyperlink" Target="mailto:klon@klon.org.pl" TargetMode="External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go.pl/" TargetMode="External"/><Relationship Id="rId2" Type="http://schemas.openxmlformats.org/officeDocument/2006/relationships/hyperlink" Target="http://www.ngo.pl/" TargetMode="External"/><Relationship Id="rId3" Type="http://schemas.openxmlformats.org/officeDocument/2006/relationships/hyperlink" Target="http://www.ngo.pl/" TargetMode="External"/><Relationship Id="rId4" Type="http://schemas.openxmlformats.org/officeDocument/2006/relationships/hyperlink" Target="http://www.ngo.pl/" TargetMode="External"/><Relationship Id="rId5" Type="http://schemas.openxmlformats.org/officeDocument/2006/relationships/hyperlink" Target="http://www.ngo.pl/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go.pl/" TargetMode="External"/><Relationship Id="rId2" Type="http://schemas.openxmlformats.org/officeDocument/2006/relationships/hyperlink" Target="http://www.ngo.pl/" TargetMode="External"/><Relationship Id="rId3" Type="http://schemas.openxmlformats.org/officeDocument/2006/relationships/hyperlink" Target="http://www.ngo.pl/" TargetMode="External"/><Relationship Id="rId4" Type="http://schemas.openxmlformats.org/officeDocument/2006/relationships/hyperlink" Target="http://www.ngo.pl/" TargetMode="External"/><Relationship Id="rId5" Type="http://schemas.openxmlformats.org/officeDocument/2006/relationships/hyperlink" Target="http://www.ngo.pl/" TargetMode="Externa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ngo.pl/" TargetMode="External"/><Relationship Id="rId2" Type="http://schemas.openxmlformats.org/officeDocument/2006/relationships/hyperlink" Target="http://www.ngo.pl/" TargetMode="External"/><Relationship Id="rId3" Type="http://schemas.openxmlformats.org/officeDocument/2006/relationships/hyperlink" Target="http://www.ngo.pl/" TargetMode="External"/><Relationship Id="rId4" Type="http://schemas.openxmlformats.org/officeDocument/2006/relationships/hyperlink" Target="http://www.ngo.pl/" TargetMode="External"/><Relationship Id="rId5" Type="http://schemas.openxmlformats.org/officeDocument/2006/relationships/hyperlink" Target="http://www.ngo.pl/" TargetMode="External"/><Relationship Id="rId6" Type="http://schemas.openxmlformats.org/officeDocument/2006/relationships/hyperlink" Target="http://www.pomocspoleczna.ngo.pl/" TargetMode="External"/><Relationship Id="rId7" Type="http://schemas.openxmlformats.org/officeDocument/2006/relationships/hyperlink" Target="http://www.gazeta.ngo.pl/" TargetMode="External"/><Relationship Id="rId8" Type="http://schemas.openxmlformats.org/officeDocument/2006/relationships/hyperlink" Target="http://www.gazeta.ngo.pl/" TargetMode="External"/><Relationship Id="rId9" Type="http://schemas.openxmlformats.org/officeDocument/2006/relationships/hyperlink" Target="http://www.gazeta.ngo.pl/" TargetMode="External"/><Relationship Id="rId10" Type="http://schemas.openxmlformats.org/officeDocument/2006/relationships/hyperlink" Target="http://www.gazeta.ngo.pl/" TargetMode="External"/><Relationship Id="rId11" Type="http://schemas.openxmlformats.org/officeDocument/2006/relationships/hyperlink" Target="http://www.gazeta.ngo.pl/" TargetMode="External"/><Relationship Id="rId12" Type="http://schemas.openxmlformats.org/officeDocument/2006/relationships/hyperlink" Target="http://www.gazeta.ngo.pl/" TargetMode="External"/><Relationship Id="rId13" Type="http://schemas.openxmlformats.org/officeDocument/2006/relationships/hyperlink" Target="http://www.gazeta.ngo.pl/" TargetMode="External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omocspoleczna.ngo.pl/" TargetMode="External"/><Relationship Id="rId2" Type="http://schemas.openxmlformats.org/officeDocument/2006/relationships/hyperlink" Target="http://www.pomocspoleczna.ngo.pl/" TargetMode="External"/><Relationship Id="rId3" Type="http://schemas.openxmlformats.org/officeDocument/2006/relationships/hyperlink" Target="http://www.pomocspoleczna.ngo.pl/" TargetMode="External"/><Relationship Id="rId4" Type="http://schemas.openxmlformats.org/officeDocument/2006/relationships/hyperlink" Target="http://www.pomocspoleczna.ngo.pl/" TargetMode="External"/><Relationship Id="rId5" Type="http://schemas.openxmlformats.org/officeDocument/2006/relationships/hyperlink" Target="http://www.pomocspoleczna.ngo.pl/" TargetMode="External"/><Relationship Id="rId6" Type="http://schemas.openxmlformats.org/officeDocument/2006/relationships/hyperlink" Target="http://www.ngo.pl/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2895480"/>
            <a:ext cx="73548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uk-UA" sz="2800" spc="-1" strike="noStrike">
                <a:solidFill>
                  <a:srgbClr val="333399"/>
                </a:solidFill>
                <a:latin typeface="Tahoma"/>
              </a:rPr>
              <a:t>Досвід роботи польських неурядових </a:t>
            </a:r>
            <a:br>
              <a:rPr sz="2800"/>
            </a:br>
            <a:r>
              <a:rPr b="1" lang="uk-UA" sz="2800" spc="-1" strike="noStrike">
                <a:solidFill>
                  <a:srgbClr val="333399"/>
                </a:solidFill>
                <a:latin typeface="Tahoma"/>
              </a:rPr>
              <a:t>громадських організацій - НГО</a:t>
            </a:r>
            <a:br>
              <a:rPr sz="54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99"/>
                </a:solidFill>
                <a:latin typeface="Times New Roman"/>
              </a:rPr>
              <a:t>Державний комітет ядерного регулювання Україн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99"/>
                </a:solidFill>
                <a:latin typeface="Times New Roman"/>
              </a:rPr>
              <a:t>Варвара Сікоренко-Гусар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9900"/>
                </a:solidFill>
                <a:latin typeface="Tahoma"/>
              </a:rPr>
              <a:t>Варшава – 200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010280" y="0"/>
            <a:ext cx="1600200" cy="8002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80880" y="0"/>
            <a:ext cx="1600200" cy="8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"/>
          <p:cNvGraphicFramePr/>
          <p:nvPr/>
        </p:nvGraphicFramePr>
        <p:xfrm>
          <a:off x="4495680" y="3581280"/>
          <a:ext cx="712800" cy="76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3581280"/>
                    <a:ext cx="7128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Gerb_gold" descr=""/>
          <p:cNvPicPr/>
          <p:nvPr/>
        </p:nvPicPr>
        <p:blipFill>
          <a:blip r:embed="rId5"/>
          <a:stretch/>
        </p:blipFill>
        <p:spPr>
          <a:xfrm>
            <a:off x="4419720" y="228600"/>
            <a:ext cx="542880" cy="80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AEF9-2DF3-40C1-AA66-6A65AD9C33B9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F1C1FBF-A5AC-4020-B94B-CB63A28714C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218960" y="990720"/>
            <a:ext cx="792468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71360" indent="-1713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Підготовка та поширення довідників для НГО серії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uk-UA" sz="2400" spc="-1" strike="noStrike">
                <a:solidFill>
                  <a:srgbClr val="ff0066"/>
                </a:solidFill>
                <a:latin typeface="Tahoma"/>
              </a:rPr>
              <a:t>“</a:t>
            </a:r>
            <a:r>
              <a:rPr b="1" lang="uk-UA" sz="2400" spc="-1" strike="noStrike">
                <a:solidFill>
                  <a:srgbClr val="ff0066"/>
                </a:solidFill>
                <a:latin typeface="Tahoma"/>
              </a:rPr>
              <a:t>Пізнай свої права”</a:t>
            </a:r>
            <a:r>
              <a:rPr b="1" lang="uk-UA" sz="2000" spc="-1" strike="noStrike">
                <a:solidFill>
                  <a:srgbClr val="000000"/>
                </a:solidFill>
                <a:latin typeface="Tahoma"/>
              </a:rPr>
              <a:t>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ahoma"/>
              </a:rPr>
              <a:t>Хто і коли може отримати соціальні дотації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ahoma"/>
              </a:rPr>
              <a:t>Хто має право на отримання надлишкової житлової площі 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ahoma"/>
              </a:rPr>
              <a:t>Безробітні – допомога, реєстрація, прав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ahoma"/>
              </a:rPr>
              <a:t>Люди похилого віку – послуги з опік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(а також з питань: реєстрації господарської діяльності, сплати податків, пенсійної системи, соціальної допомоги,  квартирних тощо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7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uk-UA" sz="2000" spc="-1" strike="noStrike">
                <a:solidFill>
                  <a:srgbClr val="ff0066"/>
                </a:solidFill>
                <a:latin typeface="Tahoma"/>
              </a:rPr>
              <a:t>“</a:t>
            </a:r>
            <a:r>
              <a:rPr b="1" lang="uk-UA" sz="2400" spc="-1" strike="noStrike">
                <a:solidFill>
                  <a:srgbClr val="ff0066"/>
                </a:solidFill>
                <a:latin typeface="Tahoma"/>
              </a:rPr>
              <a:t>Слід знати більше”:</a:t>
            </a: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uk-UA" sz="1800" spc="-1" strike="noStrike">
                <a:solidFill>
                  <a:srgbClr val="000000"/>
                </a:solidFill>
                <a:latin typeface="Tahoma"/>
              </a:rPr>
              <a:t>порядок подання документів до адміністративних органів та функції адміністративних органів у процедурі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71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Замовниками друкованої продукції є НГО. За останнім  замовленням було розтиражовано 16 тис. екз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7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71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267680" cy="61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V. </a:t>
            </a:r>
            <a:r>
              <a:rPr b="1" lang="uk-UA" sz="2800" spc="-1" strike="noStrike">
                <a:solidFill>
                  <a:srgbClr val="333399"/>
                </a:solidFill>
                <a:latin typeface="Tahoma"/>
              </a:rPr>
              <a:t>Видавнича діяльність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D31C-825D-42C0-976A-BDA9E0D4361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B8337-CA67-4D0F-882B-844278D3E7A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66680" y="3200400"/>
            <a:ext cx="7925040" cy="320040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50000">
                <a:srgbClr val="00e4a8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Структура Товариства</a:t>
            </a:r>
            <a:r>
              <a:rPr b="1" lang="uk-UA" sz="4400" spc="-1" strike="noStrike">
                <a:solidFill>
                  <a:srgbClr val="333399"/>
                </a:solidFill>
                <a:latin typeface="Tahoma"/>
                <a:ea typeface="Times New Roman"/>
              </a:rPr>
              <a:t> </a:t>
            </a:r>
            <a:br>
              <a:rPr sz="4400"/>
            </a:br>
            <a:r>
              <a:rPr b="1" lang="uk-UA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uk-UA" sz="2800" spc="-1" strike="noStrike">
                <a:solidFill>
                  <a:srgbClr val="333399"/>
                </a:solidFill>
                <a:latin typeface="Tahoma"/>
                <a:ea typeface="Times New Roman"/>
              </a:rPr>
              <a:t>(</a:t>
            </a:r>
            <a:r>
              <a:rPr b="1" lang="uk-UA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18 штат</a:t>
            </a:r>
            <a:r>
              <a:rPr b="1" lang="uk-UA" sz="2400" spc="-1" strike="noStrike">
                <a:solidFill>
                  <a:srgbClr val="333399"/>
                </a:solidFill>
                <a:latin typeface="Times New Roman"/>
              </a:rPr>
              <a:t>них</a:t>
            </a:r>
            <a:r>
              <a:rPr b="1" lang="uk-UA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333399"/>
                </a:solidFill>
                <a:latin typeface="Times New Roman"/>
              </a:rPr>
              <a:t>одиниць </a:t>
            </a:r>
            <a:r>
              <a:rPr b="1" lang="uk-UA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+ 10 волонтерів</a:t>
            </a:r>
            <a:r>
              <a:rPr b="0" lang="uk-UA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uk-UA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)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8960" y="1371240"/>
            <a:ext cx="79246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9900"/>
                </a:solidFill>
                <a:latin typeface="Tahoma"/>
                <a:ea typeface="Times New Roman"/>
              </a:rPr>
              <a:t>Керівництво Товариства:</a:t>
            </a:r>
            <a:r>
              <a:rPr b="1" lang="uk-UA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2400" indent="-212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Голова</a:t>
            </a: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 –</a:t>
            </a:r>
            <a:r>
              <a:rPr b="1" lang="uk-UA" sz="2000" spc="-1" strike="noStrike">
                <a:solidFill>
                  <a:srgbClr val="000000"/>
                </a:solidFill>
                <a:latin typeface="Tahoma"/>
              </a:rPr>
              <a:t> Рафал Ковальскі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60440" indent="-1771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бухгалтер, заступники Голови – 3 чол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60440" indent="-177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Ревізійна Комісія – 3 чо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2400" indent="-212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ро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60440" indent="-177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ректор </a:t>
            </a: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з питань</a:t>
            </a: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інформації  (координатор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60440" indent="-177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ректор по </a:t>
            </a: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зв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язк</a:t>
            </a: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м з громадськістю</a:t>
            </a: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60440" indent="-177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жба по </a:t>
            </a: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роботі</a:t>
            </a: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з громадськістю – 6 чо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60440" indent="-177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жба по </a:t>
            </a:r>
            <a:r>
              <a:rPr b="1" lang="uk-UA" sz="2000" spc="-1" strike="noStrike">
                <a:solidFill>
                  <a:srgbClr val="ffffff"/>
                </a:solidFill>
                <a:latin typeface="Times New Roman"/>
              </a:rPr>
              <a:t>роботі</a:t>
            </a: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з громадськими організаціями – 4 чо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60440" indent="-177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жба з інформаційного та технічного супроводу роботи веб-порталу – 6 чо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2400" indent="-212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Допоміжна служба по обслуговуванню веб-порталу НГО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3 чол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60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4830-F592-4C10-97E9-65FFFBC0675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9BBBA9-7F95-438D-A410-B0579197BFE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520" y="533160"/>
            <a:ext cx="76201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uk-UA" sz="6600" spc="-1" strike="noStrike">
                <a:solidFill>
                  <a:srgbClr val="333399"/>
                </a:solidFill>
                <a:latin typeface="Tahoma"/>
              </a:rPr>
              <a:t>Спонсор 1 </a:t>
            </a:r>
            <a:br>
              <a:rPr sz="6600"/>
            </a:b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914400"/>
            <a:ext cx="79246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ctr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9900"/>
                </a:solidFill>
                <a:uFillTx/>
                <a:latin typeface="Times New Roman"/>
                <a:ea typeface="Times New Roman"/>
              </a:rPr>
              <a:t>Фонд «О</a:t>
            </a:r>
            <a:r>
              <a:rPr b="1" lang="uk-UA" sz="2400" spc="-1" strike="noStrike" u="sng">
                <a:solidFill>
                  <a:srgbClr val="ff9900"/>
                </a:solidFill>
                <a:uFillTx/>
                <a:latin typeface="Times New Roman"/>
              </a:rPr>
              <a:t>світа</a:t>
            </a:r>
            <a:r>
              <a:rPr b="1" lang="uk-UA" sz="2400" spc="-1" strike="noStrike" u="sng">
                <a:solidFill>
                  <a:srgbClr val="ff9900"/>
                </a:solidFill>
                <a:uFillTx/>
                <a:latin typeface="Times New Roman"/>
                <a:ea typeface="Times New Roman"/>
              </a:rPr>
              <a:t> для Демократ</a:t>
            </a:r>
            <a:r>
              <a:rPr b="1" lang="uk-UA" sz="2400" spc="-1" strike="noStrike" u="sng">
                <a:solidFill>
                  <a:srgbClr val="ff9900"/>
                </a:solidFill>
                <a:uFillTx/>
                <a:latin typeface="Times New Roman"/>
              </a:rPr>
              <a:t>ії</a:t>
            </a:r>
            <a:r>
              <a:rPr b="1" lang="uk-UA" sz="2400" spc="-1" strike="noStrike" u="sng">
                <a:solidFill>
                  <a:srgbClr val="ff9900"/>
                </a:solidFill>
                <a:uFillTx/>
                <a:latin typeface="Times New Roman"/>
                <a:ea typeface="Times New Roman"/>
              </a:rPr>
              <a:t>»</a:t>
            </a:r>
            <a:r>
              <a:rPr b="0" lang="uk-UA" sz="2400" spc="-1" strike="noStrike" u="sng">
                <a:solidFill>
                  <a:srgbClr val="ff99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uk-UA" sz="2400" spc="-1" strike="noStrike" u="sng">
                <a:solidFill>
                  <a:srgbClr val="ff9900"/>
                </a:solidFill>
                <a:uFillTx/>
                <a:latin typeface="Times New Roman"/>
              </a:rPr>
              <a:t>- </a:t>
            </a:r>
            <a:r>
              <a:rPr b="1" lang="uk-UA" sz="2400" spc="-1" strike="noStrike" u="sng">
                <a:solidFill>
                  <a:srgbClr val="ff9900"/>
                </a:solidFill>
                <a:uFillTx/>
                <a:latin typeface="Times New Roman"/>
                <a:ea typeface="Times New Roman"/>
              </a:rPr>
              <a:t>http://www.edudemo.org.p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0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д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ован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напри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ц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80-х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кі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завдяки співробітництву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ьс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ь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х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та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мериканс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ь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х педагог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етою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нд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є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повсюдження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нан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ь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демократ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ю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та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инкову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ом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так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 нав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ичо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, необх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ни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для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громадської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льност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демократич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ній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державі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дач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нд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надання допомоги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елям, д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ча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громадських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ган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ц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,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ихов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елям, профс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ілкам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олод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н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им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ган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ц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ям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ган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ам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сцев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о само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рядування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Поль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щі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та інш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краї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 Центрально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ї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Східної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Є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оп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0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07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6045120"/>
            <a:ext cx="8458200" cy="5637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1752480" y="609480"/>
            <a:ext cx="714600" cy="85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0DE2-7666-409D-94E4-43AA591B530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7F3D06-3039-43C0-9B47-2F4E2037AFC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80720" y="914040"/>
            <a:ext cx="64278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333399"/>
                </a:solidFill>
                <a:latin typeface="Tahoma"/>
              </a:rPr>
              <a:t>Спонсор 2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47920" y="990720"/>
            <a:ext cx="815328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-216000" algn="ctr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9900"/>
                </a:solidFill>
                <a:uFillTx/>
                <a:latin typeface="Times New Roman"/>
                <a:ea typeface="Times New Roman"/>
              </a:rPr>
              <a:t>Польсько-Американський Фонд Свободи –</a:t>
            </a:r>
            <a:r>
              <a:rPr b="1" lang="uk-UA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uk-UA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1"/>
              </a:rPr>
              <a:t>www</a:t>
            </a:r>
            <a:r>
              <a:rPr b="0" lang="uk-UA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2"/>
              </a:rPr>
              <a:t>.</a:t>
            </a:r>
            <a:r>
              <a:rPr b="0" lang="uk-UA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3"/>
              </a:rPr>
              <a:t>rita</a:t>
            </a:r>
            <a:r>
              <a:rPr b="0" lang="uk-UA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4"/>
              </a:rPr>
              <a:t>.</a:t>
            </a:r>
            <a:r>
              <a:rPr b="0" lang="uk-UA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5"/>
              </a:rPr>
              <a:t>edudemo</a:t>
            </a:r>
            <a:r>
              <a:rPr b="0" lang="uk-UA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6"/>
              </a:rPr>
              <a:t>.</a:t>
            </a:r>
            <a:r>
              <a:rPr b="0" lang="uk-UA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7"/>
              </a:rPr>
              <a:t>org</a:t>
            </a:r>
            <a:r>
              <a:rPr b="0" lang="uk-UA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8"/>
              </a:rPr>
              <a:t>.</a:t>
            </a:r>
            <a:r>
              <a:rPr b="0" lang="uk-UA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9"/>
              </a:rPr>
              <a:t>p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6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а П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творе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 Рег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RITA ("Region in Transition")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це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а Польс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ь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-Американс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ь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о Фонд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вобод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яка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ується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ндом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світ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демократ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ї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6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Метою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грам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є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трим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 демократич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т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ови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п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творень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раїнах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схід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го блок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ерш за все через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обмін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ьс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ь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м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досвід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6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ц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мети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здійснюється через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надання консультативної допомоги е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сперт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,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навчання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та встановлення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акт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з особами або закладами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ц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х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раї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 в рамках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ив,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які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пер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ш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чер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г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еал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ація яких здійснювалась би на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итор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ї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ь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щі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6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Головним завданням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є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ь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ні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в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т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телектуальн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,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ом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ні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т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ч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ні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 сферах,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обудованих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ц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ност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ях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хі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ого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світ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отов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здібних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рацювати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п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трим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 демократ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ї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ової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ом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громадянського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суспіль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16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а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спрямова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польс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ь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урядові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рган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ц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ї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т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світні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заклади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які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ал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уют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ь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ект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що мають на меті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трим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 процес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рансформац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ї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ї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схід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го блок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0"/>
          <a:stretch/>
        </p:blipFill>
        <p:spPr>
          <a:xfrm>
            <a:off x="1295280" y="228600"/>
            <a:ext cx="1067040" cy="9144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1"/>
          <a:stretch/>
        </p:blipFill>
        <p:spPr>
          <a:xfrm>
            <a:off x="7848720" y="228600"/>
            <a:ext cx="1047600" cy="84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4738-F947-474C-876C-E264964BA84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95BCBB-F192-43B6-BAA6-04342C1C61C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90920" y="0"/>
            <a:ext cx="5410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uk-UA" sz="4400" spc="-1" strike="noStrike">
                <a:solidFill>
                  <a:srgbClr val="ff9900"/>
                </a:solidFill>
                <a:latin typeface="Tahoma"/>
              </a:rPr>
              <a:t> </a:t>
            </a:r>
            <a:r>
              <a:rPr b="1" lang="uk-UA" sz="6600" spc="-1" strike="noStrike">
                <a:solidFill>
                  <a:srgbClr val="333399"/>
                </a:solidFill>
                <a:latin typeface="Tahoma"/>
              </a:rPr>
              <a:t>Спонсор 3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8487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ctr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Польс</a:t>
            </a:r>
            <a:r>
              <a:rPr b="1" lang="uk-UA" sz="2400" spc="-1" strike="noStrike">
                <a:solidFill>
                  <a:srgbClr val="ff9900"/>
                </a:solidFill>
                <a:latin typeface="Times New Roman"/>
              </a:rPr>
              <a:t>ь</a:t>
            </a:r>
            <a:r>
              <a:rPr b="1" lang="uk-UA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ка Гуман</a:t>
            </a:r>
            <a:r>
              <a:rPr b="1" lang="uk-UA" sz="2400" spc="-1" strike="noStrike">
                <a:solidFill>
                  <a:srgbClr val="ff9900"/>
                </a:solidFill>
                <a:latin typeface="Times New Roman"/>
              </a:rPr>
              <a:t>і</a:t>
            </a:r>
            <a:r>
              <a:rPr b="1" lang="uk-UA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тарна Акц</a:t>
            </a:r>
            <a:r>
              <a:rPr b="1" lang="uk-UA" sz="2400" spc="-1" strike="noStrike">
                <a:solidFill>
                  <a:srgbClr val="ff9900"/>
                </a:solidFill>
                <a:latin typeface="Times New Roman"/>
              </a:rPr>
              <a:t>і</a:t>
            </a:r>
            <a:r>
              <a:rPr b="1" lang="uk-UA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я </a:t>
            </a:r>
            <a:r>
              <a:rPr b="1" lang="uk-UA" sz="2400" spc="-1" strike="noStrike">
                <a:solidFill>
                  <a:srgbClr val="ff9900"/>
                </a:solidFill>
                <a:latin typeface="Times New Roman"/>
              </a:rPr>
              <a:t>- </a:t>
            </a:r>
            <a:r>
              <a:rPr b="1" lang="uk-UA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М</a:t>
            </a:r>
            <a:r>
              <a:rPr b="1" lang="uk-UA" sz="2400" spc="-1" strike="noStrike">
                <a:solidFill>
                  <a:srgbClr val="ff9900"/>
                </a:solidFill>
                <a:latin typeface="Times New Roman"/>
              </a:rPr>
              <a:t>і</a:t>
            </a:r>
            <a:r>
              <a:rPr b="1" lang="uk-UA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с</a:t>
            </a:r>
            <a:r>
              <a:rPr b="1" lang="uk-UA" sz="2400" spc="-1" strike="noStrike">
                <a:solidFill>
                  <a:srgbClr val="ff9900"/>
                </a:solidFill>
                <a:latin typeface="Times New Roman"/>
              </a:rPr>
              <a:t>і</a:t>
            </a:r>
            <a:r>
              <a:rPr b="1" lang="uk-UA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я Польс</a:t>
            </a:r>
            <a:r>
              <a:rPr b="1" lang="uk-UA" sz="2400" spc="-1" strike="noStrike">
                <a:solidFill>
                  <a:srgbClr val="ff9900"/>
                </a:solidFill>
                <a:latin typeface="Times New Roman"/>
              </a:rPr>
              <a:t>ь</a:t>
            </a:r>
            <a:r>
              <a:rPr b="1" lang="uk-UA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ко</a:t>
            </a:r>
            <a:r>
              <a:rPr b="1" lang="uk-UA" sz="2400" spc="-1" strike="noStrike">
                <a:solidFill>
                  <a:srgbClr val="ff9900"/>
                </a:solidFill>
                <a:latin typeface="Times New Roman"/>
              </a:rPr>
              <a:t>ї</a:t>
            </a:r>
            <a:r>
              <a:rPr b="1" lang="uk-UA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Гуман</a:t>
            </a:r>
            <a:r>
              <a:rPr b="1" lang="uk-UA" sz="2400" spc="-1" strike="noStrike">
                <a:solidFill>
                  <a:srgbClr val="ff9900"/>
                </a:solidFill>
                <a:latin typeface="Times New Roman"/>
              </a:rPr>
              <a:t>і</a:t>
            </a:r>
            <a:r>
              <a:rPr b="1" lang="uk-UA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тарно</a:t>
            </a:r>
            <a:r>
              <a:rPr b="1" lang="uk-UA" sz="2400" spc="-1" strike="noStrike">
                <a:solidFill>
                  <a:srgbClr val="ff9900"/>
                </a:solidFill>
                <a:latin typeface="Times New Roman"/>
              </a:rPr>
              <a:t>ї</a:t>
            </a:r>
            <a:r>
              <a:rPr b="1" lang="uk-UA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Акц</a:t>
            </a:r>
            <a:r>
              <a:rPr b="1" lang="uk-UA" sz="2400" spc="-1" strike="noStrike">
                <a:solidFill>
                  <a:srgbClr val="ff9900"/>
                </a:solidFill>
                <a:latin typeface="Times New Roman"/>
              </a:rPr>
              <a:t>ії</a:t>
            </a:r>
            <a:r>
              <a:rPr b="1" lang="uk-UA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07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Зробити світ краще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з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зменшення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ра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ь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та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н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ня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уман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ни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ц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ностей"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7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http://www.pah.org.p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с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ь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 Гуман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рна Акц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є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юдям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, які з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дя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ть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я в криз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ові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 ситуац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ї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найшвидшом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оволодінні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обою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приня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тті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ідповідальності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сво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є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майбутнє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так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 форм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ує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учасн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ультуру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допомоги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7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засада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ГА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ктивн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ї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з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збереженням поваги до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людської гідності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ГА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ш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чер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г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вит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ь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мет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х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опит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допомогою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якнай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ш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ькість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країн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так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залучати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надання допомого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най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ьш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ькість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юде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96336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5B1C-D7F5-4340-9230-5FCB5300402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BFF96B-FC15-4268-B626-53FF74F3D33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057040" y="60948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uk-UA" sz="6600" spc="-1" strike="noStrike">
                <a:solidFill>
                  <a:srgbClr val="333399"/>
                </a:solidFill>
                <a:latin typeface="Tahoma"/>
              </a:rPr>
              <a:t>Спонсор 4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42640" y="1295280"/>
            <a:ext cx="80010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М</a:t>
            </a:r>
            <a:r>
              <a:rPr b="0" lang="uk-UA" sz="2400" spc="-1" strike="noStrike">
                <a:solidFill>
                  <a:srgbClr val="ff9900"/>
                </a:solidFill>
                <a:latin typeface="Times New Roman"/>
              </a:rPr>
              <a:t>і</a:t>
            </a:r>
            <a:r>
              <a:rPr b="0" lang="uk-UA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жнародна </a:t>
            </a:r>
            <a:r>
              <a:rPr b="0" lang="uk-UA" sz="2400" spc="-1" strike="noStrike">
                <a:solidFill>
                  <a:srgbClr val="ff9900"/>
                </a:solidFill>
                <a:latin typeface="Times New Roman"/>
              </a:rPr>
              <a:t>Мережа</a:t>
            </a:r>
            <a:r>
              <a:rPr b="0" lang="uk-UA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О</a:t>
            </a:r>
            <a:r>
              <a:rPr b="0" lang="uk-UA" sz="2400" spc="-1" strike="noStrike">
                <a:solidFill>
                  <a:srgbClr val="ff9900"/>
                </a:solidFill>
                <a:latin typeface="Times New Roman"/>
              </a:rPr>
              <a:t>світи</a:t>
            </a:r>
            <a:r>
              <a:rPr b="0" lang="uk-UA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для Демократ</a:t>
            </a:r>
            <a:r>
              <a:rPr b="0" lang="uk-UA" sz="2400" spc="-1" strike="noStrike">
                <a:solidFill>
                  <a:srgbClr val="ff9900"/>
                </a:solidFill>
                <a:latin typeface="Times New Roman"/>
              </a:rPr>
              <a:t>ії</a:t>
            </a:r>
            <a:r>
              <a:rPr b="0" lang="uk-UA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- EDIT Ne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6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1"/>
              </a:rPr>
              <a:t>http</a:t>
            </a:r>
            <a:r>
              <a:rPr b="0" lang="uk-UA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2"/>
              </a:rPr>
              <a:t>://</a:t>
            </a:r>
            <a:r>
              <a:rPr b="0" lang="uk-UA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3"/>
              </a:rPr>
              <a:t>www</a:t>
            </a:r>
            <a:r>
              <a:rPr b="0" lang="uk-UA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4"/>
              </a:rPr>
              <a:t>.</a:t>
            </a:r>
            <a:r>
              <a:rPr b="0" lang="uk-UA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5"/>
              </a:rPr>
              <a:t>editnet</a:t>
            </a:r>
            <a:r>
              <a:rPr b="0" lang="uk-UA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6"/>
              </a:rPr>
              <a:t>.</a:t>
            </a:r>
            <a:r>
              <a:rPr b="0" lang="uk-UA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  <a:hlinkClick r:id="rId7"/>
              </a:rPr>
              <a:t>or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Мета та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льн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ь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IT Net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це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простір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для співробітництв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з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лежн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орган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ц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,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які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бмежені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мками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мережі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які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іють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фер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громадянської освіт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во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ї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рег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х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рахуванням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ультурн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т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ц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льн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традиц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й.</a:t>
            </a:r>
            <a:br>
              <a:rPr sz="2400"/>
            </a:b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народн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ої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Мережі</a:t>
            </a:r>
            <a:r>
              <a:rPr b="0" lang="uk-UA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це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ід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ищення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якості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громадянської освіт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краї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 Центрально-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хідної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Є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оп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вказ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т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нтрально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ї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з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ії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ами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мережі є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громадські організації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зербайджан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кра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їни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Б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є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рус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онгол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ії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ос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ії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ль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щі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збекистан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і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джикистан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8001000" y="5562720"/>
            <a:ext cx="90000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AB49-25C2-4ADA-9FA1-FDBF0C199DE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5A026A-CE59-44E3-A160-67D0F7DCDC5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333399"/>
                </a:solidFill>
                <a:latin typeface="Tahoma"/>
              </a:rPr>
              <a:t>Спонсор 5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-160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Фонд Форда 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60920" indent="-160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Фонд Соціальних Ініціатив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60920" indent="-160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Мазовецьке Воєводське Управління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60920" indent="-160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ЄС в рамках Європейського соціального Фонда</a:t>
            </a:r>
            <a:br>
              <a:rPr sz="2400"/>
            </a:b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60920" indent="-1609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Польсько-американсько-українська Ініціатива про співпрацю - ПАУСІ</a:t>
            </a:r>
            <a:br>
              <a:rPr sz="2400"/>
            </a:br>
            <a:r>
              <a:rPr b="0" lang="uk-UA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"/>
              </a:rPr>
              <a:t>http</a:t>
            </a:r>
            <a:r>
              <a:rPr b="0" lang="uk-UA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2"/>
              </a:rPr>
              <a:t>://</a:t>
            </a:r>
            <a:r>
              <a:rPr b="0" lang="uk-UA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3"/>
              </a:rPr>
              <a:t>www</a:t>
            </a:r>
            <a:r>
              <a:rPr b="0" lang="uk-UA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4"/>
              </a:rPr>
              <a:t>.</a:t>
            </a:r>
            <a:r>
              <a:rPr b="0" lang="uk-UA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5"/>
              </a:rPr>
              <a:t>pauci</a:t>
            </a:r>
            <a:r>
              <a:rPr b="0" lang="uk-UA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6"/>
              </a:rPr>
              <a:t>.</a:t>
            </a:r>
            <a:r>
              <a:rPr b="0" lang="uk-UA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7"/>
              </a:rPr>
              <a:t>org</a:t>
            </a:r>
            <a:br>
              <a:rPr sz="2400"/>
            </a:b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7391520" y="5486400"/>
            <a:ext cx="1295280" cy="6224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9"/>
          <a:stretch/>
        </p:blipFill>
        <p:spPr>
          <a:xfrm>
            <a:off x="0" y="228600"/>
            <a:ext cx="1371600" cy="78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3808-2247-4D3D-8B54-AF994AE68C1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EB2E81-D422-4B7C-9F91-0447EBDF5CF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09120" y="1752480"/>
            <a:ext cx="8534520" cy="21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000000"/>
                </a:solidFill>
                <a:latin typeface="Tahoma"/>
              </a:rPr>
              <a:t>Дякую за увагу !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1" name="klon_logo" descr=""/>
          <p:cNvPicPr/>
          <p:nvPr/>
        </p:nvPicPr>
        <p:blipFill>
          <a:blip r:embed="rId1"/>
          <a:stretch/>
        </p:blipFill>
        <p:spPr>
          <a:xfrm>
            <a:off x="3048120" y="3429000"/>
            <a:ext cx="3429000" cy="2664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www.ngo.pl"/>
          <p:cNvPicPr/>
          <p:nvPr/>
        </p:nvPicPr>
        <p:blipFill>
          <a:blip r:embed="rId2"/>
          <a:stretch/>
        </p:blipFill>
        <p:spPr>
          <a:xfrm>
            <a:off x="3429000" y="228600"/>
            <a:ext cx="2286000" cy="1143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914400" y="228600"/>
            <a:ext cx="914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280" rIns="9360" tIns="17280" bIns="172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532320"/>
            <a:ext cx="2224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39783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2DCA-6AA1-4555-80F2-9840BC710216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E9F507-FAEE-478F-9D6C-67954822116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19320" y="4724280"/>
            <a:ext cx="7924680" cy="167652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50000">
                <a:srgbClr val="00e4a8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Адре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  <a:hlinkClick r:id="rId1"/>
              </a:rPr>
              <a:t>http://www.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  <a:hlinkClick r:id="rId2"/>
              </a:rPr>
              <a:t>klon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  <a:hlinkClick r:id="rId3"/>
              </a:rPr>
              <a:t>.org.pl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e-mail: 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  <a:hlinkClick r:id="rId4"/>
              </a:rPr>
              <a:t>klon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  <a:hlinkClick r:id="rId5"/>
              </a:rPr>
              <a:t>@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  <a:hlinkClick r:id="rId6"/>
              </a:rPr>
              <a:t>klon</a:t>
            </a:r>
            <a:r>
              <a:rPr b="0" lang="en-GB" sz="2000" spc="-1" strike="noStrike" u="sng">
                <a:solidFill>
                  <a:srgbClr val="ff0000"/>
                </a:solidFill>
                <a:uFillTx/>
                <a:latin typeface="Arial"/>
                <a:ea typeface="Times New Roman"/>
                <a:hlinkClick r:id="rId7"/>
              </a:rPr>
              <a:t>.org.pl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370512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klon_logo" descr=""/>
          <p:cNvPicPr/>
          <p:nvPr/>
        </p:nvPicPr>
        <p:blipFill>
          <a:blip r:embed="rId8"/>
          <a:stretch/>
        </p:blipFill>
        <p:spPr>
          <a:xfrm>
            <a:off x="3200400" y="1676520"/>
            <a:ext cx="3429000" cy="2663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7200" y="528480"/>
            <a:ext cx="1013616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1" lang="uk-UA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Товариство “Клен-Явір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C5A7-5211-4A43-A547-D6B98235FF7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1C20D1-4CAF-44F4-93D6-1772FFCCA44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040" y="0"/>
            <a:ext cx="8325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333399"/>
                </a:solidFill>
                <a:latin typeface="Tahoma"/>
              </a:rPr>
              <a:t>Напрями діяльності: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38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625680" indent="-625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Моніторинг НГО Польщі. Ведення бази даних НГ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25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25680" indent="-625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Моніторинг державних та недержавних організацій соціальної підтрим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25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25680" indent="-625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Консультативна допомог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25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25680" indent="-625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Інформаційна діяльніст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25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25680" indent="-625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Видавнича діяльні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43120" cy="99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7FF6-D8E8-4E0F-ADA5-9ECCC43A4C0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484840-4297-4244-92D5-15600E5825B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324640" cy="11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99"/>
                </a:solidFill>
                <a:latin typeface="Tahoma"/>
              </a:rPr>
              <a:t>І. Моніторинг НГО Польщі. Ведення бази </a:t>
            </a:r>
            <a:br>
              <a:rPr sz="2800"/>
            </a:br>
            <a:r>
              <a:rPr b="1" lang="uk-UA" sz="2800" spc="-1" strike="noStrike">
                <a:solidFill>
                  <a:srgbClr val="333399"/>
                </a:solidFill>
                <a:latin typeface="Tahoma"/>
              </a:rPr>
              <a:t>даних НГО.</a:t>
            </a:r>
            <a:br>
              <a:rPr sz="36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3000"/>
          </a:bodyPr>
          <a:p>
            <a:pPr marL="18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Збір та аналіз інформації про НГО щодо їх громадської активності та напрямів розвитк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1800" indent="-181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Постійне поновлення бази даних НГО, яка містить майже 50 тис. організацій зі складом більше 15 членів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1800" indent="-181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Ведення порталу  </a:t>
            </a:r>
            <a:r>
              <a:rPr b="0" lang="uk-UA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"/>
              </a:rPr>
              <a:t>www</a:t>
            </a:r>
            <a:r>
              <a:rPr b="0" lang="uk-UA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2"/>
              </a:rPr>
              <a:t>.</a:t>
            </a:r>
            <a:r>
              <a:rPr b="0" lang="uk-UA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3"/>
              </a:rPr>
              <a:t>ngo</a:t>
            </a:r>
            <a:r>
              <a:rPr b="0" lang="uk-UA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4"/>
              </a:rPr>
              <a:t>.</a:t>
            </a:r>
            <a:r>
              <a:rPr b="0" lang="uk-UA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5"/>
              </a:rPr>
              <a:t>pl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 - найбільшого джерела інформації про НГ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1800" indent="-181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Підготовка та поширення звітів і аналітичних матеріалів про НГ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8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5556-28A0-4247-8D65-F7E5AA7C47B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CF8A6C-4731-4014-A638-25D2C91A266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47560" y="1294920"/>
            <a:ext cx="69339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4000"/>
            </a:br>
            <a:r>
              <a:rPr b="1" lang="uk-UA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uk-UA" sz="2800" spc="-1" strike="noStrike">
                <a:solidFill>
                  <a:srgbClr val="333399"/>
                </a:solidFill>
                <a:latin typeface="Tahoma"/>
              </a:rPr>
              <a:t>ІІ. Моніторинг державних і недержавних організацій соціальної підтримк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Всебічні регулярні дослідження </a:t>
            </a:r>
            <a:r>
              <a:rPr b="1" lang="uk-UA" sz="2400" spc="-1" strike="noStrike">
                <a:solidFill>
                  <a:srgbClr val="ff0066"/>
                </a:solidFill>
                <a:latin typeface="Tahoma"/>
              </a:rPr>
              <a:t>організацій соціальної допомоги</a:t>
            </a: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, які діють на території Польщі, та їх громадської активності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2400" indent="-212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Ведення бази даних в Інтернеті про асоціації, фонди та інстанції, до яких треба звертатись з різних питан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2400" indent="-212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Постійне поновлення бази даних на порталі  </a:t>
            </a:r>
            <a:r>
              <a:rPr b="0" lang="uk-UA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"/>
              </a:rPr>
              <a:t>www</a:t>
            </a:r>
            <a:r>
              <a:rPr b="0" lang="uk-UA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2"/>
              </a:rPr>
              <a:t>.</a:t>
            </a:r>
            <a:r>
              <a:rPr b="0" lang="uk-UA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3"/>
              </a:rPr>
              <a:t>ngo</a:t>
            </a:r>
            <a:r>
              <a:rPr b="0" lang="uk-UA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4"/>
              </a:rPr>
              <a:t>.</a:t>
            </a:r>
            <a:r>
              <a:rPr b="0" lang="uk-UA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5"/>
              </a:rPr>
              <a:t>pl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про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иватні ініціативи в Польщі, які надають допомог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2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A428-653C-4549-A0C5-5CF333226B8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DFD83A-E259-40A0-97A0-A1D3A1D145A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uk-UA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uk-UA" sz="3200" spc="-1" strike="noStrike">
                <a:solidFill>
                  <a:srgbClr val="333399"/>
                </a:solidFill>
                <a:latin typeface="Tahoma"/>
              </a:rPr>
              <a:t>ІІІ. Консультативна допомог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Консультації надаються людям, які не можуть самостійно подолати свої проблеми і потребують допомог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9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9160" indent="-209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ahoma"/>
              </a:rPr>
              <a:t>з обмеженою працездатністю: інвалідам, людям похилого віку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09160" indent="-209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ahoma"/>
              </a:rPr>
              <a:t>дітям-сиротам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09160" indent="-209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ahoma"/>
              </a:rPr>
              <a:t>репатріантам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09160" indent="-209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ahoma"/>
              </a:rPr>
              <a:t>безпритульним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09160" indent="-209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ahoma"/>
              </a:rPr>
              <a:t>безробітним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09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09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У Польщі працює 2400 центрів, які надають допомогу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9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96B5-1232-48F6-BF94-585E9123659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71E8BD-1804-4586-A751-98AB71017F4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12949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З</a:t>
            </a:r>
            <a:r>
              <a:rPr b="1" lang="uk-UA" sz="2800" spc="-1" strike="noStrike">
                <a:solidFill>
                  <a:srgbClr val="333399"/>
                </a:solidFill>
                <a:latin typeface="Tahoma"/>
              </a:rPr>
              <a:t> яких питань надаються консультації ?</a:t>
            </a:r>
            <a:br>
              <a:rPr sz="2800"/>
            </a:br>
            <a:br>
              <a:rPr sz="36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Права громадян, закріплені чинним законодавством Польщі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Види допомоги, яку може отримати громадянин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Як скористатись своїм правом? Соціальна допомог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До кого треба звернутись, з цим питанням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Як довести свою правоту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Які документи необхідно мати для цього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9680" indent="-229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Хто може надати фінансову допомогу..?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001000" y="4952880"/>
            <a:ext cx="87624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642B-3898-40F0-9E0C-B2F16F9BD36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0231F5-0C2A-4374-A145-19B0136E046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333399"/>
                </a:solidFill>
                <a:latin typeface="Tahoma"/>
              </a:rPr>
              <a:t>І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V. </a:t>
            </a:r>
            <a:r>
              <a:rPr b="1" lang="uk-UA" sz="4400" spc="-1" strike="noStrike">
                <a:solidFill>
                  <a:srgbClr val="333399"/>
                </a:solidFill>
                <a:latin typeface="Tahoma"/>
              </a:rPr>
              <a:t>Інформаційна діяльніст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790640"/>
            <a:ext cx="8001000" cy="23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Підготовка та поширення інформаційних листків (брошур, буклетів) </a:t>
            </a:r>
            <a:r>
              <a:rPr b="0" i="1" lang="uk-UA" sz="2400" spc="-1" strike="noStrike">
                <a:solidFill>
                  <a:srgbClr val="000000"/>
                </a:solidFill>
                <a:latin typeface="Tahoma"/>
              </a:rPr>
              <a:t>про права </a:t>
            </a:r>
            <a:r>
              <a:rPr b="1" i="1" lang="uk-UA" sz="2400" spc="-1" strike="noStrike">
                <a:solidFill>
                  <a:srgbClr val="000000"/>
                </a:solidFill>
                <a:latin typeface="Tahoma"/>
              </a:rPr>
              <a:t>різних соціальних груп</a:t>
            </a:r>
            <a:r>
              <a:rPr b="0" i="1" lang="uk-UA" sz="2400" spc="-1" strike="noStrike">
                <a:solidFill>
                  <a:srgbClr val="000000"/>
                </a:solidFill>
                <a:latin typeface="Tahoma"/>
              </a:rPr>
              <a:t> людей з обмеженою працездатністю та організаціях, які надають їм допомог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840" indent="-222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Поширення інформації через Інтернет: </a:t>
            </a:r>
            <a:r>
              <a:rPr b="0" lang="uk-UA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"/>
              </a:rPr>
              <a:t>www</a:t>
            </a:r>
            <a:r>
              <a:rPr b="0" lang="uk-UA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2"/>
              </a:rPr>
              <a:t>.</a:t>
            </a:r>
            <a:r>
              <a:rPr b="0" lang="uk-UA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3"/>
              </a:rPr>
              <a:t>ngo</a:t>
            </a:r>
            <a:r>
              <a:rPr b="0" lang="uk-UA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4"/>
              </a:rPr>
              <a:t>.</a:t>
            </a:r>
            <a:r>
              <a:rPr b="0" lang="uk-UA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5"/>
              </a:rPr>
              <a:t>pl</a:t>
            </a:r>
            <a:r>
              <a:rPr b="1" lang="uk-UA" sz="2400" spc="-1" strike="noStrike">
                <a:solidFill>
                  <a:srgbClr val="000000"/>
                </a:solidFill>
                <a:latin typeface="Tahoma"/>
              </a:rPr>
              <a:t> ;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www.pomocspoleczna.ngo.pl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22840" indent="-222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Видання та поширення популярної просвітницької щомісячної газети НГО - </a:t>
            </a:r>
            <a:r>
              <a:rPr b="0" lang="uk-UA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7"/>
              </a:rPr>
              <a:t>www</a:t>
            </a:r>
            <a:r>
              <a:rPr b="0" lang="uk-UA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8"/>
              </a:rPr>
              <a:t>.</a:t>
            </a:r>
            <a:r>
              <a:rPr b="0" lang="uk-UA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9"/>
              </a:rPr>
              <a:t>gazeta</a:t>
            </a:r>
            <a:r>
              <a:rPr b="0" lang="uk-UA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0"/>
              </a:rPr>
              <a:t>.</a:t>
            </a:r>
            <a:r>
              <a:rPr b="0" lang="uk-UA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1"/>
              </a:rPr>
              <a:t>ngo</a:t>
            </a:r>
            <a:r>
              <a:rPr b="0" lang="uk-UA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2"/>
              </a:rPr>
              <a:t>.</a:t>
            </a:r>
            <a:r>
              <a:rPr b="0" lang="uk-UA" sz="24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13"/>
              </a:rPr>
              <a:t>p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; телегазета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VP2</a:t>
            </a: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 со стр.175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1B32-F870-4084-9A5A-9582C5EB150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B250C3-D721-4578-9CDD-233977BAA9A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56920" y="689040"/>
            <a:ext cx="71802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uk-UA" sz="2800" spc="-1" strike="noStrike">
                <a:solidFill>
                  <a:srgbClr val="cc3300"/>
                </a:solidFill>
                <a:latin typeface="Tahoma"/>
              </a:rPr>
              <a:t>сервіс в порталі НГО </a:t>
            </a:r>
            <a:br>
              <a:rPr sz="2800"/>
            </a:b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pomocspoleczna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.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ngo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.pl</a:t>
            </a: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 </a:t>
            </a:r>
            <a:br>
              <a:rPr sz="2800"/>
            </a:br>
            <a:r>
              <a:rPr b="1" lang="uk-UA" sz="2800" spc="-1" strike="noStrike">
                <a:solidFill>
                  <a:srgbClr val="cc3300"/>
                </a:solidFill>
                <a:latin typeface="Tahoma"/>
              </a:rPr>
              <a:t>- </a:t>
            </a:r>
            <a:r>
              <a:rPr b="0" lang="uk-UA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  <a:hlinkClick r:id="rId6"/>
              </a:rPr>
              <a:t>www.ngo.pl</a:t>
            </a:r>
            <a:r>
              <a:rPr b="1" lang="uk-UA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639440" y="2192040"/>
            <a:ext cx="723924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marL="144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44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ahoma"/>
              </a:rPr>
              <a:t>Цей сервіс створено для всіх, хто потребує соціальної допомоги або надає її, а також зібрана інформація щодо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44000" indent="-1440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правових змін, в т.ч. в законах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4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44000" indent="-1440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про заходи та фінансово доступні засоб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4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44000" indent="-1440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показники (розміри виплат, прибуткових критеріїв, пенсій тощо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4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44000" indent="-1440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ahoma"/>
              </a:rPr>
              <a:t>адреси відділень допомог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0825-FD7B-4FF3-A576-A46EECA163A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8AF22-6D60-41E7-ACB7-C27E2A92AC2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hor Makarenko</cp:lastModifiedBy>
  <dcterms:modified xsi:type="dcterms:W3CDTF">2006-03-31T19:17:46Z</dcterms:modified>
  <cp:revision>394</cp:revision>
  <dc:subject/>
  <dc:title>Презентация PowerPoint</dc:title>
</cp:coreProperties>
</file>